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88509-CDB1-41F3-A691-C898DF0BD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343D-8505-4616-93C8-70F004E21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72F92-7E2D-4A86-BBA0-A2A713120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3762A-8461-4521-9F1A-59ABBDC23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731A-2F0C-4E2A-8BC8-2121C2CC5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41A0-46FB-449A-8846-08D40FCE2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D769-4FEE-408D-9AC7-028F5C841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3247B-2B33-4D83-8A41-C42931D3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044F-AC5A-41CA-9CBA-D7637EE2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F1F1-418A-4464-A1F5-F03A3F69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DCD8-E89B-40B7-BF52-8FF2DD10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B208-584C-4BBA-BA9F-D1249BB13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F12F-77CB-42CC-9521-D88C29ECC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49"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7"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8"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0"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4T12:23:31Z</dcterms:modified>
  <cp:revision>7</cp:revision>
  <dc:subject/>
  <dc:title>Diapositiva 1</dc:title>
</cp:coreProperties>
</file>